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B845-3A48-4050-BA85-D41299F7C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FB9E-9AE8-4EA1-B99C-512A66DA2C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C836-2D04-4F31-B257-A5207DD3B5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24F5-B1A6-4F3A-9F68-45C90F33CB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6C9E-3BC2-447E-9F77-8061D3CF75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E25F-70C7-469E-87EC-51DD544B98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5741-F815-40BB-BF15-9922BD10B2C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040B-E6EF-4487-9E26-EFA7BCBA1B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A59A-1545-43DD-8F12-EB11330536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A1D2-422D-48DA-8647-8E3C1BD60A4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8636-E043-4715-BA49-78693C6E6D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D29A-4FFD-4411-9BF2-686CC7B580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104C-2B87-401F-90EB-3BAEE4123F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5D19-7008-4C38-A72F-4DA5C46FEFC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C5DA-0362-41EB-861E-D65706739C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CF39-4F24-4D0E-AE26-0C42978CBF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4366-64F9-4259-A92E-6E4E56EF78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D525-D38C-4647-B702-12D2A216EB8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5253-3F03-440E-9A4C-7C66A1B103B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F533-5683-4042-84FB-8D718A0D73F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EAF4-4C99-413F-A49A-FF52C217BD7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C10A-83D0-4FD6-8220-841CC5C0C9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5B88-5F4F-4564-B460-B737970E98E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6D75-DB6C-46C2-8AB2-0A2EAD87B52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A74A-2F1E-4C56-8150-215397F96A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629A-0A6D-47BD-A912-E2D28CADB2D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E7AB-1533-4798-B7D7-D239549FAA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D179-EC53-4A9D-A119-E865F1F3F2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74BA-724E-4874-84A7-AB8ED7ECA5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E2D6-1CC4-4E29-841B-5B87FD1AFF4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1511-2508-41C3-9EDA-E51569C52A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3988-9AD0-4A16-ACAB-1A12F86B93F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E5E3-5E28-425A-B332-2973400C4D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5A23-224F-445A-BC11-1A3DD28653A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E4E8-923F-48A7-A12A-57305C2C28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5177-D11A-4FC8-B541-4D3FD2EE49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E30C-CAA0-4F2C-A108-D13751EACB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1"/>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Quintilian wrote in </a:t>
            </a:r>
            <a:r>
              <a:rPr b="1" i="1" lang="en-US" sz="2400" spc="-1" strike="noStrike">
                <a:solidFill>
                  <a:srgbClr val="333399"/>
                </a:solidFill>
                <a:latin typeface="Times New Roman"/>
              </a:rPr>
              <a:t>Institutio Oratoria</a:t>
            </a:r>
            <a:r>
              <a:rPr b="1" lang="en-US" sz="2400" spc="-1" strike="noStrike">
                <a:solidFill>
                  <a:srgbClr val="333399"/>
                </a:solidFill>
                <a:latin typeface="Times New Roman"/>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Ezekiel saw "what seemed to be four living creatures," each with faces of a man, a lion, an ox, and an eagle (</a:t>
            </a:r>
            <a:r>
              <a:rPr b="1" i="1" lang="en-US" sz="2400" spc="-1" strike="noStrike">
                <a:solidFill>
                  <a:srgbClr val="333399"/>
                </a:solidFill>
                <a:latin typeface="Times New Roman"/>
              </a:rPr>
              <a:t>New Jerusalem Bible</a:t>
            </a:r>
            <a:r>
              <a:rPr b="1" lang="en-US" sz="2400" spc="-1" strike="noStrike">
                <a:solidFill>
                  <a:srgbClr val="333399"/>
                </a:solidFill>
                <a:latin typeface="Times New Roman"/>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rner Herzog's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stars Herzog's long-time film partner, Klaus Kinski. During the shooting of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rzog, Werner, dir.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One online film critic stated that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arcia, Elizabeth. "Herzog: a Life." </a:t>
            </a:r>
            <a:r>
              <a:rPr b="1" i="1" lang="en-US" sz="2400" spc="-1" strike="noStrike">
                <a:solidFill>
                  <a:srgbClr val="333399"/>
                </a:solidFill>
                <a:latin typeface="Times New Roman"/>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Corner</a:t>
            </a:r>
            <a:r>
              <a:rPr b="1" lang="en-US" sz="2400" spc="-1" strike="noStrike">
                <a:solidFill>
                  <a:srgbClr val="333399"/>
                </a:solidFill>
                <a:latin typeface="Times New Roman"/>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1"/>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a:t>
            </a:r>
            <a:r>
              <a:rPr b="1" lang="en-US" sz="2400" spc="-1" strike="noStrike">
                <a:solidFill>
                  <a:srgbClr val="000000"/>
                </a:solidFill>
                <a:latin typeface="Arial"/>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1"/>
          <a:stretch/>
        </p:blipFill>
        <p:spPr>
          <a:xfrm>
            <a:off x="1193760" y="2209680"/>
            <a:ext cx="2689200" cy="4038840"/>
          </a:xfrm>
          <a:prstGeom prst="rect">
            <a:avLst/>
          </a:prstGeom>
          <a:ln w="0">
            <a:noFill/>
          </a:ln>
        </p:spPr>
      </p:pic>
      <p:pic>
        <p:nvPicPr>
          <p:cNvPr id="89" name="Picture 7" descr=""/>
          <p:cNvPicPr/>
          <p:nvPr/>
        </p:nvPicPr>
        <p:blipFill>
          <a:blip r:embed="rId2"/>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ame.”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A List Apart: For People Who Make Websites</a:t>
            </a:r>
            <a:r>
              <a:rPr b="1" lang="en-US" sz="2200" spc="-1" strike="noStrike">
                <a:solidFill>
                  <a:srgbClr val="333399"/>
                </a:solidFill>
                <a:latin typeface="Times New Roman"/>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d. Web. 24 Feb. 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Lafayette, IN. 23 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Writing Lab Phone Number: 765-494-3723</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1"/>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d in the paper)</a:t>
            </a:r>
            <a:endParaRPr b="1" lang="en-US" sz="2400" spc="-1" strike="noStrike">
              <a:solidFill>
                <a:srgbClr val="000000"/>
              </a:solidFill>
              <a:latin typeface="Arial"/>
            </a:endParaRPr>
          </a:p>
        </p:txBody>
      </p:sp>
      <p:pic>
        <p:nvPicPr>
          <p:cNvPr id="92" name="Picture 5" descr=""/>
          <p:cNvPicPr/>
          <p:nvPr/>
        </p:nvPicPr>
        <p:blipFill>
          <a:blip r:embed="rId1"/>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1"/>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drschaef</cp:lastModifiedBy>
  <dcterms:modified xsi:type="dcterms:W3CDTF">2010-10-20T13:50:22Z</dcterms:modified>
  <cp:revision>421</cp:revision>
  <dc:subject/>
  <dc:title>Finding Your Focus</dc:title>
</cp:coreProperties>
</file>